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723480"/>
            <a:ext cx="7194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7234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7234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2952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2952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7234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7234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723480"/>
            <a:ext cx="2316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7234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7234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723480"/>
            <a:ext cx="7194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bd7c1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文档阅读与网上图书阅读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8.1  Acrobat Reader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8.2  超星图书阅览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24160" y="2009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超星图书馆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638680" cy="356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52680" y="609480"/>
            <a:ext cx="9118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“数字图书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8040" y="3314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超星图书馆3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756288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5334120"/>
            <a:ext cx="4724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籍阅读窗口的工具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24160" y="2395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超星图书馆5" descr=""/>
          <p:cNvPicPr/>
          <p:nvPr/>
        </p:nvPicPr>
        <p:blipFill>
          <a:blip r:embed="rId1"/>
          <a:stretch/>
        </p:blipFill>
        <p:spPr>
          <a:xfrm>
            <a:off x="1371600" y="1243080"/>
            <a:ext cx="6400800" cy="294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62320" y="4724280"/>
            <a:ext cx="441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8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上资源站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7184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超星图书馆6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353200" cy="3325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49528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专题资源站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24160" y="22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超星图书馆7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1447920" y="1295280"/>
            <a:ext cx="5829120" cy="307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49528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传资源站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4191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书目更新和资料下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3633840" y="3090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超星图书馆9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748040" cy="171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48769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更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2667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资料下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319560" y="2448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超星图书馆11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4376880" cy="34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66880" y="548640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下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22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超星图书馆10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3462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49528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图书下载文件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29120" y="2548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超星图书馆7-1" descr=""/>
          <p:cNvPicPr/>
          <p:nvPr/>
        </p:nvPicPr>
        <p:blipFill>
          <a:blip r:embed="rId2"/>
          <a:stretch/>
        </p:blipFill>
        <p:spPr>
          <a:xfrm>
            <a:off x="5486400" y="1295280"/>
            <a:ext cx="1978200" cy="3210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495288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129120" y="2557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超星图书馆1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19600" cy="285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2320" y="495288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下载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cap="rnd" w="9360">
            <a:solidFill>
              <a:srgbClr val="cc99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8.2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使用技巧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工具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具栏上有这样几个按钮：“全屏显示”、“回浏览器”、“前／后翻页”、“进／退到指定页”、“放大镜”、“拖动翻页”等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9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书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书签”菜单，选择“添加”命令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3481560" y="2638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超星图书馆14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3857760" cy="2795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61960" y="2590920"/>
            <a:ext cx="91188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书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8.1  Acrobat Read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Arial"/>
                <a:hlinkClick r:id="rId1" action="ppaction://hlinksldjump"/>
              </a:rPr>
              <a:t>8.1.1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  <a:hlinkClick r:id="rId2" action="ppaction://hlinksldjump"/>
              </a:rPr>
              <a:t>界面简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  <a:hlinkClick r:id="rId3" action="ppaction://hlinksldjump"/>
              </a:rPr>
              <a:t>8.1.2  Acrobat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  <a:hlinkClick r:id="rId4" action="ppaction://hlinksldjump"/>
              </a:rPr>
              <a:t>的操作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194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书签”菜单中选择“书签管理器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2781360" y="2771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超星图书馆16-1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06736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0" y="46483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签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194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线查找图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开“搜索”选项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2347920" y="2624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超星图书馆17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29040" cy="207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0" y="502920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找图书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00480" y="2662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超星图书馆18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48600" cy="1924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0" y="48769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检索结果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37339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360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标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3600" indent="-27360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绘图工具进行标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3600" indent="-27360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批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3600" indent="-27360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超链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3600" indent="-27360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出、导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3814920" y="26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超星图书馆21-1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3116520" cy="3409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62320" y="5257800"/>
            <a:ext cx="472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标注按钮进行标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14760" y="2757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超星图书馆20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504960" cy="245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0200" y="4572000"/>
            <a:ext cx="251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批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852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超星图书馆21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842840" cy="1990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48320" y="457200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批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10040" y="2685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超星图书馆22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67280" cy="2524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66880" y="46483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超链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窗口”菜单下的“编辑窗口”命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传发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62360" y="29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超星图书馆24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39040" cy="31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62320" y="487692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194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识别文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3181320" y="2452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超星图书馆25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14760" cy="31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666880" y="53341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识别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62440" y="2538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超星图书馆26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91200" cy="2871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81080" y="4800600"/>
            <a:ext cx="525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识别的文字添加到编辑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cap="rnd" w="9360">
            <a:solidFill>
              <a:srgbClr val="cc99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8.1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简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2919240" y="2462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acrobat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00520" cy="274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5029200"/>
            <a:ext cx="5410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robat Reader 5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文版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cap="rnd" w="9360">
            <a:solidFill>
              <a:srgbClr val="cc99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Thank you very much!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274392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endshow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cap="rnd" w="9360">
            <a:solidFill>
              <a:srgbClr val="cc99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8.1.2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Acrobat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的操作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2360" y="1371240"/>
            <a:ext cx="7194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robat Read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带的帮助文件为例给予说明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robat Reader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整文档窗格的显示方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拖动文档窗口右边的滚动条浏览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局部放大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“书签”和“缩略图”快速浏览特定页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字查找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印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14720" y="2505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crobat2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1844640" cy="305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5029200"/>
            <a:ext cx="2666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书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7200" y="2205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crobat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17334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952880"/>
            <a:ext cx="32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略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09840" y="2933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robat4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86240" cy="17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3720" y="49528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cap="rnd" w="9360">
            <a:solidFill>
              <a:srgbClr val="cc99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8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超星图书阅览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hlinkClick r:id="rId1" action="ppaction://hlinksldjump"/>
              </a:rPr>
              <a:t>8.2.1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hlinkClick r:id="rId2" action="ppaction://hlinksldjump"/>
              </a:rPr>
              <a:t>超星图书阅览器的基本使用方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黑体"/>
                <a:hlinkClick r:id="rId3" action="ppaction://hlinksldjump"/>
              </a:rPr>
              <a:t>8.2.2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黑体"/>
                <a:hlinkClick r:id="rId4" action="ppaction://hlinksldjump"/>
              </a:rPr>
              <a:t>使用技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7213680" y="6377040"/>
            <a:ext cx="1244520" cy="368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8.2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超星图书阅览器的基本使用方法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19460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界面介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击桌面上的“超星阅览器”图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2214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超星图书馆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5276880" cy="33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0040" y="2362320"/>
            <a:ext cx="9118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星图书馆主界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开远程图书馆中的书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图书站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资源站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题资源站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传资源站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3:36:29Z</dcterms:modified>
  <cp:revision>86</cp:revision>
  <dc:subject/>
  <dc:title>Module 7: Designing a Multiple Domain Structure</dc:title>
</cp:coreProperties>
</file>